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23.png" ContentType="image/png"/>
  <Override PartName="/ppt/media/image13.jpeg" ContentType="image/jpeg"/>
  <Override PartName="/ppt/media/image32.png" ContentType="image/png"/>
  <Override PartName="/ppt/media/image7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36.png" ContentType="image/png"/>
  <Override PartName="/ppt/media/image18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74268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32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D7A1-5578-4986-94BC-8043E564B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571ADA-D120-4DB0-AE68-3D61B50E38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78040" y="74304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 сложило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 стагнации и закладка основы для ро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3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йший ро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4304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нового ИТ–подразделения было нацелено на устранение приведенных выше рисков и выведения информационных технологий в организации на современный уровень достаточный для достижения постоянного качества предоставляемых ИТ-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4304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ОАО «Светлана» основано в 1889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090-FF48-48C1-A329-70641707B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ные – реализовано (полностью или частич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олетовые – планируется в будущих релиз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ое – блок под вопро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о штрих-к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, 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рузка данных банковских выписок из Бухгалте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щники ввода: механизмы позволяющие за минимальное время произвести (авто)запол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чать вести учет в том или ином бло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0" y="74304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32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водя итог вышесказанному, хочу отметить, что не всегда есть возможность «здесь и сейчас» сделать первый шаг на пути становления ИТ-подразделения как серьезной бизнес-единицы, влияющей на увеличение финансового результата организации в целом. Но всегда надо помнить, что в большинстве случаев это возможно и зависит, в первую очередь, от вас самих и вашего непосредственного бизнес-руководителя (или «куратора»). Так как, несмотря на то, что большая часть работы ляжет на ваши плечи, в его руках останется  задача перевода идеи в проект и поддержка на всем этапе проекта внутри организации. А это, поверьте, нема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78040" y="74304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В настоящее время  ОАО «Светлана» представляет собой холдинг,  дочерние предприятия которого специализируются на разработке и производстве высокотехнологичных изделий электронной компонентной базы широкого спектра примен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0960" cy="3668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CBA22C-50E4-4E9C-B485-C99A81A3F2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12B-2083-45E0-A202-131316ED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7DD-C67D-4871-B1FF-EB6EEE01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17F-F890-412B-8B37-E69D2547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702-65AA-4245-A2DA-01836FC1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D41-747C-4ED2-9201-DF3B2AC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017-82C8-4B21-A632-6F8370C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BB5-F71B-4E2F-B51C-6812C8D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30D-29AC-451D-AD77-4FFD2372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AE0-C323-4151-8C0A-A1C7BC1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AB3-50CE-4CA1-B8C1-0EBB2E54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6E0-CC09-4BD6-B987-C27CB4A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59A-0946-4D5C-9F7B-334CC36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F04E02-BD91-4DE4-96FA-7EE6C2CF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59280" y="1413000"/>
            <a:ext cx="57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Old English Text MT"/>
              </a:rPr>
              <a:t>CIO congr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Verdana"/>
              </a:rPr>
              <a:t>«Болдинская осень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5143680" y="6094440"/>
            <a:ext cx="400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Verdana"/>
              </a:rPr>
              <a:t>Нижний Новгород</a:t>
            </a:r>
            <a:r>
              <a:rPr b="1" i="1" lang="en-US" sz="1800" spc="-1" strike="noStrike">
                <a:solidFill>
                  <a:srgbClr val="66ff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Verdana"/>
              </a:rPr>
              <a:t>05.10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268360" y="4000680"/>
            <a:ext cx="68756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Verdana"/>
              </a:rPr>
              <a:t>ИТ-отдел ver.3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От предоставления сервисов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 созданию источника до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85840" y="457200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.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 2011 по настояще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Управление информационных технологий и телекоммуник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Эволюционное развитие ИТ </a:t>
            </a:r>
            <a:r>
              <a:rPr b="1" lang="en-GB" sz="2800" spc="-1" strike="noStrike">
                <a:solidFill>
                  <a:srgbClr val="194285"/>
                </a:solidFill>
                <a:latin typeface="Tahoma"/>
              </a:rPr>
              <a:t>ОАО «Светла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85840" y="261144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.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 2008 по 2010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тдел технического обеспечения и информационной безопасности вычислительной с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85840" y="9698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.1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 19хх по 200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тдел информационных технологий и вычислительный цен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Основные рассматриваемые р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14200" y="642960"/>
            <a:ext cx="86439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онные рис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Потеря кредита доверия к ИТ (в частности, ключевым сотрудникам ИТ) со стороны руководства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Неготовность ИТ вникать в задачи основных бизнес-подразделений ОА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Нежелание сотрудников ИТ–подразделения воспринимать требования бизнеса адекв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Сопротивление стандартам в области информационных технологий со стороны сотрудников ОАО «Светлана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Отсутствие команды в ИТ–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Отсутствие в ИТ «критической массы» адекватных специалис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Невозможность делегирования ответственности в ИТ–подразде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Попытки решать организационные проблемы техническими средствами, перекладывание решения таких проблем на информационные технолог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Общие демотивирующие факторы: «непрозрачность» деятельности ИТ–подразделения для сотрудников, отсутствие общих целей, видения, неизвестное будущее и т.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раструктурные (технологические) рис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Изношенная и неадекватная задачам бизнеса инфраструк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Сверхзависимость от поставщиков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Ошибки в архитектуре корпоративной сети передачи дан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Устаревшие бизнес-приложения, несоответствующие требованиям 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Проблемы в информационных системах из-за невыполнения стандартов и регламентных процедур персоналом ИТ–подразд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нансовые рис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Сложность оценки затрат на поддержку морально устаревшего ИТ-ландшаф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дровые рис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Выбытие ключевых специалис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Ключевые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14200" y="64296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льзователи ИТ-услуг не получали новые (измененные) решения или услуги вовремя с необходимым каче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едоставление некачественных текущих ИТ-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Т-руководство неадекватно воспринимало собственную роль и ответственность за качество, и уровень развития информационных технологий в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нформационные технологии развивались хаотически, отсутствовал «запас прочности» инфраструктуры и бизнес-приложений. Отсутствовала стратегии развития и стандартов 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Т–подразделение не имело опыта отбора и адаптации новых технологий, опыта работы с поставщиками решений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Основные поставленные перед ИТ цели (20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14200" y="642960"/>
            <a:ext cx="8643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Достигнуть 1 уровень зрелости ИТ-процессов (повторяющиеся процессы автоматизированы) с элементами 2 уровня (процессы документирован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 срок выполняются проекты и мини-проекты развития 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Функционально создана и работает служба поддержки 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оздать процессы управления инцидентами, проблемами, релизами, конфигурациями. ИТ–подразделение должно частично работать в проактивном режи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ИТ-инфраструктура работает на основе стандартов, все пользователи получают одинаковую операционную сре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оздан ИТ-ландшафт адекватный задачам бизнес-пользователей, с возможностью дальнейшего расши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Достигнута прозрачность управления ИТ-услу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buClr>
                <a:srgbClr val="336699"/>
              </a:buClr>
              <a:buFont typeface="Arial"/>
              <a:buAutoNum type="arabicPeriod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Финансовые затраты экономически обоснованы, бюджетирование построено по принципу минимум затрат на достижение соответствующего уровня предоставляемы ИТ-усл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63230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Ключевой приоритет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– МИНИМУМ ЗАТ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250920" y="44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Структура управления ИТиТ (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1071720" y="714240"/>
          <a:ext cx="7572240" cy="55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714240"/>
                    <a:ext cx="757224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Примеры проектов (2011)</a:t>
            </a:r>
            <a:r>
              <a:rPr b="1" lang="ru-RU" sz="2800" spc="-1" strike="noStrike" baseline="-25000">
                <a:solidFill>
                  <a:srgbClr val="194285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642960"/>
            <a:ext cx="914400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</a:rPr>
              <a:t>Проект по реконструкции системы внутренней телефонной сети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исание проекта: 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Идеей проекта является реконструкция автоматической телефонной станции в целях эффективного использования в качестве ядра системы внутренней телефонной сети связи при сроке окупаемости не более 5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сновные сложности проек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роект запущен с третьей попытки (банкротство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Nortel, 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кризи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тсутствие  возможности тестирования демо-стенда (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&gt; 100 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км маг. кабел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Замена кросса емкостью 8000 пар в режиме реального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ереключение АТС в режиме реального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бъединение «ИТ» и «Связ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окращение персон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мена части номерной емкости (300 гор. аб. номер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роблемы с оборудованием (выход из строя 10 АП из 70 за 1-й месяц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тсутствие специализированного помещения под АТ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…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тапы проек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дготовительный («бумажный»: проработка проекта, БП, защит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троительный (серверная комната и каналы связ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Модернизация АТС (замена кросса, АТС,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85840" y="63230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Ключевой приоритет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– МИНИМУМ ЗАТ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Примеры проектов (2011)</a:t>
            </a:r>
            <a:r>
              <a:rPr b="1" lang="ru-RU" sz="2800" spc="-1" strike="noStrike" baseline="-25000">
                <a:solidFill>
                  <a:srgbClr val="194285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64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</a:rPr>
              <a:t>Проект по реконструкции системы внутренней телефонной сети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85840" y="63230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Ключевой приоритет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– МИНИМУМ ЗАТ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Текущая схема СВТС"/>
          <p:cNvPicPr/>
          <p:nvPr/>
        </p:nvPicPr>
        <p:blipFill>
          <a:blip r:embed="rId2"/>
          <a:stretch/>
        </p:blipFill>
        <p:spPr>
          <a:xfrm>
            <a:off x="1285920" y="1000080"/>
            <a:ext cx="6929280" cy="5078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Схема построения сети для презентации.emf"/>
          <p:cNvPicPr/>
          <p:nvPr/>
        </p:nvPicPr>
        <p:blipFill>
          <a:blip r:embed="rId3"/>
          <a:stretch/>
        </p:blipFill>
        <p:spPr>
          <a:xfrm>
            <a:off x="785880" y="928800"/>
            <a:ext cx="714384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Примеры проектов (2011)</a:t>
            </a:r>
            <a:r>
              <a:rPr b="1" lang="ru-RU" sz="2800" spc="-1" strike="noStrike" baseline="-25000">
                <a:solidFill>
                  <a:srgbClr val="194285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42960"/>
            <a:ext cx="9144000" cy="51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</a:rPr>
              <a:t>Проект по реконструкции системы внутренней телефонной сети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езультат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Замена ДШ АТС-54 (71 года монтажа) на современную АТС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рганизация новых каналов связ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строение новой серверной комнаты и высвобождение площади (200 м</a:t>
            </a:r>
            <a:r>
              <a:rPr b="1" lang="ru-RU" sz="1600" spc="-1" strike="noStrike" baseline="30000">
                <a:solidFill>
                  <a:srgbClr val="336699"/>
                </a:solidFill>
                <a:latin typeface="Arial"/>
                <a:ea typeface="Lucida Sans Unicode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Увеличение доходности Холдинга ОАО «Светлана» за счет снижения издержек производ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строение  надёжной,  отказоустойчивой  взаимоувязанной  телефонной  сети  ОАО «Светлана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Улучшение качества связи и предоставление клиентам всего спектра современных услуг электросвязи на уровне международных стандар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Замена устаревшей ДШ АТС-54 на современную с сохранением существующих телефонных линий и телефонных аппаратов, с возможностью в дальнейшем развивать структуру телефонной сети цифровыми и IP-телефо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Замена кросса на 8000 па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…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сновной этап проекта выполнен без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  <a:ea typeface="Lucida Sans Unicode"/>
              </a:rPr>
              <a:t>аванс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  <a:ea typeface="Lucida Sans Unicode"/>
              </a:rPr>
              <a:t>Общая экономия порядка 2,5 млн. 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5840" y="63230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Ключевой приоритет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– МИНИМУМ ЗАТ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Примеры проектов (2011)</a:t>
            </a:r>
            <a:r>
              <a:rPr b="1" lang="ru-RU" sz="2800" spc="-1" strike="noStrike" baseline="-25000">
                <a:solidFill>
                  <a:srgbClr val="194285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642960"/>
            <a:ext cx="914400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Проект взаимодействия с операторами свя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исание проекта: 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Взаимодействие с операторами связи в рамках которого оказываются услуги с целью обеспечения им  возможности оказания телекоммуникационных услуг дочерним предприятиям и другим организациям, находящимся на территории предприя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сновные сложности проек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тсутствие аналогич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тсутствие опыта работы в телеком-направле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Режимность объекта и наличие «закрытых» корп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лная проработка методологической и юридической баз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ложность согласования с операторами единой формы догов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Недоверие смежных подразделений организации в успешность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мещение основных ресурсов в проект по реконструкции СВТ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тсутствие ПО для автоматизации данн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…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6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9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Бизнес-мод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64296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ссматривалось три модели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  <a:ea typeface="Lucida Sans Unicode"/>
              </a:rPr>
              <a:t>Агентс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  <a:ea typeface="Lucida Sans Unicode"/>
              </a:rPr>
              <a:t>«услуг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  <a:ea typeface="Lucida Sans Unicode"/>
              </a:rPr>
              <a:t>«клиенты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артнерс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  <a:ea typeface="Lucida Sans Unicode"/>
              </a:rPr>
              <a:t>«обеспечени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обственная «доч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1847880" y="1542960"/>
            <a:ext cx="5448240" cy="3772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1714680"/>
            <a:ext cx="504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Родоначальник и один из лидеров развития электронной промышленности Росс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7"/>
          <a:stretch/>
        </p:blipFill>
        <p:spPr>
          <a:xfrm>
            <a:off x="5040360" y="1268280"/>
            <a:ext cx="3875040" cy="387540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sp>
        <p:nvSpPr>
          <p:cNvPr id="54" name="Rectangle 1"/>
          <p:cNvSpPr/>
          <p:nvPr/>
        </p:nvSpPr>
        <p:spPr>
          <a:xfrm>
            <a:off x="0" y="5143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Verdana"/>
              </a:rPr>
              <a:t>Предприятие основано в 1889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85840" y="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000" spc="-1" strike="noStrike">
                <a:solidFill>
                  <a:srgbClr val="ff0000"/>
                </a:solidFill>
                <a:latin typeface="Verdana"/>
              </a:rPr>
              <a:t>ОАО «Светлана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0" y="785880"/>
            <a:ext cx="9144000" cy="144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Основные отлич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3760" y="1197000"/>
            <a:ext cx="6843600" cy="459720"/>
            <a:chOff x="383760" y="1197000"/>
            <a:chExt cx="6843600" cy="459720"/>
          </a:xfrm>
        </p:grpSpPr>
        <p:sp>
          <p:nvSpPr>
            <p:cNvPr id="129" name=""/>
            <p:cNvSpPr/>
            <p:nvPr/>
          </p:nvSpPr>
          <p:spPr>
            <a:xfrm>
              <a:off x="383760" y="1197000"/>
              <a:ext cx="24440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ератор связ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1760" y="1197000"/>
              <a:ext cx="971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г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42240" y="1197000"/>
              <a:ext cx="1185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ли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16360" y="14414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61080" y="144144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Rectangle 3"/>
          <p:cNvSpPr/>
          <p:nvPr/>
        </p:nvSpPr>
        <p:spPr>
          <a:xfrm>
            <a:off x="179280" y="69228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Агентская мод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0920" y="256536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Партнерская мод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4520" y="2924280"/>
            <a:ext cx="4824000" cy="2914560"/>
            <a:chOff x="434520" y="2924280"/>
            <a:chExt cx="4824000" cy="2914560"/>
          </a:xfrm>
        </p:grpSpPr>
        <p:sp>
          <p:nvSpPr>
            <p:cNvPr id="137" name=""/>
            <p:cNvSpPr/>
            <p:nvPr/>
          </p:nvSpPr>
          <p:spPr>
            <a:xfrm>
              <a:off x="3148920" y="2924280"/>
              <a:ext cx="605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520" y="3259080"/>
              <a:ext cx="4824000" cy="2579760"/>
              <a:chOff x="434520" y="3259080"/>
              <a:chExt cx="4824000" cy="2579760"/>
            </a:xfrm>
          </p:grpSpPr>
          <p:sp>
            <p:nvSpPr>
              <p:cNvPr id="139" name=""/>
              <p:cNvSpPr/>
              <p:nvPr/>
            </p:nvSpPr>
            <p:spPr>
              <a:xfrm>
                <a:off x="434520" y="3259080"/>
                <a:ext cx="24440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ператор связ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73960" y="3259080"/>
                <a:ext cx="1384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Партне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51320" y="5013360"/>
                <a:ext cx="1715400" cy="825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Клиент /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рендато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35280" y="3789360"/>
                <a:ext cx="100800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780000" y="3789360"/>
                <a:ext cx="79200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87640" y="3500280"/>
                <a:ext cx="8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74000" y="4365720"/>
                <a:ext cx="5893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18040" y="4292640"/>
                <a:ext cx="817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ДОУ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push dir="l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44360" y="1913040"/>
            <a:ext cx="874872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онная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деятельности операторов связи на территории с целью обеспечения операторам возможности предоставления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ирующая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раничение зон ответственности и курирование взаимоотношений между операторами связи, предоставляющими услуги на площадке в рамках партнерских догов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трольная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над качеством предоставления услуг связи операторами связи дочерним предприятиям и прочим организац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8000" y="907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Партнер несет ключевую роль с обеспечением следующих функций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40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-119160" y="404640"/>
            <a:ext cx="195444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4920" y="1009800"/>
            <a:ext cx="9010800" cy="4838400"/>
          </a:xfrm>
          <a:prstGeom prst="rect">
            <a:avLst/>
          </a:prstGeom>
          <a:ln w="0">
            <a:noFill/>
          </a:ln>
        </p:spPr>
      </p:pic>
      <p:sp>
        <p:nvSpPr>
          <p:cNvPr id="153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Схематическое представление проц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58920" y="105264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сутствие оперативного контроля платежей и дебиторской задолж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8920" y="191448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Зависимость от «ключевых сотрудн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58920" y="234648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Большой объем ручной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58920" y="277956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сокая вероятность ошиб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58920" y="364500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иск использования недостоверной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58920" y="321156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изкая оперативность формирования отч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358920" y="407664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изкая скорость обмена информацией внутри комп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358920" y="450864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Дублирование д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494172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ложность подготовки консолидированной отче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920" y="537372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ложности с анализом эффективности работы сотруд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8920" y="580536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азграничение прав доступа к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2064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сутствие единой базы по предоставляемым дополнительным услуг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58920" y="162864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сокая себестоимость предоставления дополнительных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Основные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500"/>
                            </p:stCondLst>
                            <p:childTnLst>
                              <p:par>
                                <p:cTn id="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500"/>
                            </p:stCondLst>
                            <p:childTnLst>
                              <p:par>
                                <p:cTn id="9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920" y="3213000"/>
            <a:ext cx="8277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птимизация учетного процесса предоставления дополнительных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920" y="2779560"/>
            <a:ext cx="8277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беспечение процесса взаимодействия с поставщиками сервисных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920" y="3787920"/>
            <a:ext cx="8277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беспечение электронного обмена бухгалтерскими  документами и финансовой отчет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4867200"/>
            <a:ext cx="8277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нижение времени поиска нужной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920" y="5300640"/>
            <a:ext cx="8277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овышение скорости коллективной обработки доку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920" y="5732640"/>
            <a:ext cx="8277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Упорядочение работы сотруд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920" y="4435560"/>
            <a:ext cx="8277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сключение вероятности утери доку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920" y="692280"/>
            <a:ext cx="8277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перативное предоставление достоверной информации о составе платежей и доходности вида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141444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нижение управленческих издержек и себестоимости процесса документального обеспечения предоставления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8920" y="2133720"/>
            <a:ext cx="8277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сутствие зависимости управленческих издержек при увеличении количества видов предоставляемых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705720" y="3789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Какие задачи пришлось реш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9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500"/>
                            </p:stCondLst>
                            <p:childTnLst>
                              <p:par>
                                <p:cTn id="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4356000" y="6454800"/>
            <a:ext cx="468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ЕХНОЛОГИЧЕСКИЕ ПЛАТФОР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58920" y="112392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С:Предприятие 8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69228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С:Предприятие 7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58920" y="155592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С:Предприятие 8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16360" y="669960"/>
            <a:ext cx="3811320" cy="2182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3809880" cy="245772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987640" y="3645000"/>
            <a:ext cx="3811680" cy="2458800"/>
            <a:chOff x="2987640" y="3645000"/>
            <a:chExt cx="3811680" cy="2458800"/>
          </a:xfrm>
        </p:grpSpPr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2987640" y="3645000"/>
              <a:ext cx="381168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3058920" y="4076640"/>
              <a:ext cx="1274760" cy="118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0" y="3357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«Инструмент»: </a:t>
            </a:r>
            <a:r>
              <a:rPr b="1" lang="en-US" sz="2800" spc="-1" strike="noStrike">
                <a:solidFill>
                  <a:srgbClr val="194285"/>
                </a:solidFill>
                <a:latin typeface="Tahoma"/>
              </a:rPr>
              <a:t>1C-S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70"/>
          <p:cNvSpPr/>
          <p:nvPr/>
        </p:nvSpPr>
        <p:spPr>
          <a:xfrm>
            <a:off x="142920" y="135720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щие объек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70"/>
          <p:cNvSpPr/>
          <p:nvPr/>
        </p:nvSpPr>
        <p:spPr>
          <a:xfrm>
            <a:off x="142920" y="22860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70"/>
          <p:cNvSpPr/>
          <p:nvPr/>
        </p:nvSpPr>
        <p:spPr>
          <a:xfrm>
            <a:off x="142920" y="32148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контрагентам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0"/>
          <p:cNvSpPr/>
          <p:nvPr/>
        </p:nvSpPr>
        <p:spPr>
          <a:xfrm>
            <a:off x="142920" y="414324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Базовы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документооборот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70"/>
          <p:cNvSpPr/>
          <p:nvPr/>
        </p:nvSpPr>
        <p:spPr>
          <a:xfrm>
            <a:off x="142920" y="507204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Внутренние 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внешние шаблоны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документов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70"/>
          <p:cNvSpPr/>
          <p:nvPr/>
        </p:nvSpPr>
        <p:spPr>
          <a:xfrm>
            <a:off x="2357280" y="1357200"/>
            <a:ext cx="214344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оставлен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70"/>
          <p:cNvSpPr/>
          <p:nvPr/>
        </p:nvSpPr>
        <p:spPr>
          <a:xfrm>
            <a:off x="2357280" y="2286000"/>
            <a:ext cx="2143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движимость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70"/>
          <p:cNvSpPr/>
          <p:nvPr/>
        </p:nvSpPr>
        <p:spPr>
          <a:xfrm>
            <a:off x="2357280" y="3214800"/>
            <a:ext cx="2143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Потребляемы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ресурс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70"/>
          <p:cNvSpPr/>
          <p:nvPr/>
        </p:nvSpPr>
        <p:spPr>
          <a:xfrm>
            <a:off x="2357280" y="4143240"/>
            <a:ext cx="214344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Техническ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проек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70"/>
          <p:cNvSpPr/>
          <p:nvPr/>
        </p:nvSpPr>
        <p:spPr>
          <a:xfrm>
            <a:off x="2357280" y="5072040"/>
            <a:ext cx="2143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Управлен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качеством услуг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470"/>
          <p:cNvSpPr/>
          <p:nvPr/>
        </p:nvSpPr>
        <p:spPr>
          <a:xfrm>
            <a:off x="4572000" y="135720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ухгалтерски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470"/>
          <p:cNvSpPr/>
          <p:nvPr/>
        </p:nvSpPr>
        <p:spPr>
          <a:xfrm>
            <a:off x="4572000" y="22860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Управленчески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учет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70"/>
          <p:cNvSpPr/>
          <p:nvPr/>
        </p:nvSpPr>
        <p:spPr>
          <a:xfrm>
            <a:off x="4572000" y="32148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Бюджетирован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70"/>
          <p:cNvSpPr/>
          <p:nvPr/>
        </p:nvSpPr>
        <p:spPr>
          <a:xfrm>
            <a:off x="4572000" y="414324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Взаимодейств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с системам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банк-клиент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70"/>
          <p:cNvSpPr/>
          <p:nvPr/>
        </p:nvSpPr>
        <p:spPr>
          <a:xfrm>
            <a:off x="4572000" y="507204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Интеграция с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1С:Бухгалтер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470"/>
          <p:cNvSpPr/>
          <p:nvPr/>
        </p:nvSpPr>
        <p:spPr>
          <a:xfrm>
            <a:off x="6786720" y="135720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рвисны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470"/>
          <p:cNvSpPr/>
          <p:nvPr/>
        </p:nvSpPr>
        <p:spPr>
          <a:xfrm>
            <a:off x="6786720" y="22860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Экспорт 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импорт данных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470"/>
          <p:cNvSpPr/>
          <p:nvPr/>
        </p:nvSpPr>
        <p:spPr>
          <a:xfrm>
            <a:off x="6786720" y="32148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Работа с внешни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оборудование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70"/>
          <p:cNvSpPr/>
          <p:nvPr/>
        </p:nvSpPr>
        <p:spPr>
          <a:xfrm>
            <a:off x="6786720" y="414324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Работа с </a:t>
            </a:r>
            <a:r>
              <a:rPr b="0" lang="en-US" sz="1700" spc="-1" strike="noStrike">
                <a:solidFill>
                  <a:srgbClr val="d60093"/>
                </a:solidFill>
                <a:latin typeface="Arial"/>
              </a:rPr>
              <a:t>Web </a:t>
            </a: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Электронно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почто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470"/>
          <p:cNvSpPr/>
          <p:nvPr/>
        </p:nvSpPr>
        <p:spPr>
          <a:xfrm>
            <a:off x="6786720" y="507204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Помощник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ввода начальной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60093"/>
                </a:solidFill>
                <a:latin typeface="Arial"/>
              </a:rPr>
              <a:t>информа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11240" y="47520"/>
            <a:ext cx="1220760" cy="1220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Функциональные бло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70"/>
          <p:cNvSpPr/>
          <p:nvPr/>
        </p:nvSpPr>
        <p:spPr>
          <a:xfrm>
            <a:off x="142920" y="135720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биторс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олжен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70"/>
          <p:cNvSpPr/>
          <p:nvPr/>
        </p:nvSpPr>
        <p:spPr>
          <a:xfrm>
            <a:off x="142920" y="22860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хгалтерского у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70"/>
          <p:cNvSpPr/>
          <p:nvPr/>
        </p:nvSpPr>
        <p:spPr>
          <a:xfrm>
            <a:off x="142920" y="32148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т потребляем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70"/>
          <p:cNvSpPr/>
          <p:nvPr/>
        </p:nvSpPr>
        <p:spPr>
          <a:xfrm>
            <a:off x="142920" y="414324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обаль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иск да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70"/>
          <p:cNvSpPr/>
          <p:nvPr/>
        </p:nvSpPr>
        <p:spPr>
          <a:xfrm>
            <a:off x="142920" y="507204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ами доступ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70"/>
          <p:cNvSpPr/>
          <p:nvPr/>
        </p:nvSpPr>
        <p:spPr>
          <a:xfrm>
            <a:off x="2357280" y="1357200"/>
            <a:ext cx="214344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план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70"/>
          <p:cNvSpPr/>
          <p:nvPr/>
        </p:nvSpPr>
        <p:spPr>
          <a:xfrm>
            <a:off x="2357280" y="2286000"/>
            <a:ext cx="2143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доходе в разрез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ов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470"/>
          <p:cNvSpPr/>
          <p:nvPr/>
        </p:nvSpPr>
        <p:spPr>
          <a:xfrm>
            <a:off x="2357280" y="3214800"/>
            <a:ext cx="2143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орт-имп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70"/>
          <p:cNvSpPr/>
          <p:nvPr/>
        </p:nvSpPr>
        <p:spPr>
          <a:xfrm>
            <a:off x="2357280" y="4143240"/>
            <a:ext cx="214344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токол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470"/>
          <p:cNvSpPr/>
          <p:nvPr/>
        </p:nvSpPr>
        <p:spPr>
          <a:xfrm>
            <a:off x="2357280" y="5072040"/>
            <a:ext cx="2143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шрутиза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70"/>
          <p:cNvSpPr/>
          <p:nvPr/>
        </p:nvSpPr>
        <p:spPr>
          <a:xfrm>
            <a:off x="4572000" y="135720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т объ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вижим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470"/>
          <p:cNvSpPr/>
          <p:nvPr/>
        </p:nvSpPr>
        <p:spPr>
          <a:xfrm>
            <a:off x="4572000" y="22860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еж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70"/>
          <p:cNvSpPr/>
          <p:nvPr/>
        </p:nvSpPr>
        <p:spPr>
          <a:xfrm>
            <a:off x="4572000" y="32148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рой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ьзовательско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70"/>
          <p:cNvSpPr/>
          <p:nvPr/>
        </p:nvSpPr>
        <p:spPr>
          <a:xfrm>
            <a:off x="4572000" y="414324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спи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яем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70"/>
          <p:cNvSpPr/>
          <p:nvPr/>
        </p:nvSpPr>
        <p:spPr>
          <a:xfrm>
            <a:off x="4572000" y="507204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штабируе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70"/>
          <p:cNvSpPr/>
          <p:nvPr/>
        </p:nvSpPr>
        <p:spPr>
          <a:xfrm>
            <a:off x="6786720" y="135720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С:Бухгалте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70"/>
          <p:cNvSpPr/>
          <p:nvPr/>
        </p:nvSpPr>
        <p:spPr>
          <a:xfrm>
            <a:off x="6786720" y="22860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ообор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470"/>
          <p:cNvSpPr/>
          <p:nvPr/>
        </p:nvSpPr>
        <p:spPr>
          <a:xfrm>
            <a:off x="6786720" y="321480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онтрагент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70"/>
          <p:cNvSpPr/>
          <p:nvPr/>
        </p:nvSpPr>
        <p:spPr>
          <a:xfrm>
            <a:off x="6786720" y="4143240"/>
            <a:ext cx="21430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нение внеш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70"/>
          <p:cNvSpPr/>
          <p:nvPr/>
        </p:nvSpPr>
        <p:spPr>
          <a:xfrm>
            <a:off x="6786720" y="5072040"/>
            <a:ext cx="2143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3e3a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сканер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трих-ко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7"/>
          <p:cNvSpPr/>
          <p:nvPr/>
        </p:nvSpPr>
        <p:spPr>
          <a:xfrm>
            <a:off x="563868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 многое друго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240" y="47520"/>
            <a:ext cx="1220760" cy="12207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Основные возмо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358920" y="112392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сключение утери док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324000" y="2347920"/>
            <a:ext cx="8672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Четкое понимание прибыльности каждого на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358920" y="3141720"/>
            <a:ext cx="8637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Снижение времени и издержек на 70% на ведение документообо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358920" y="393228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920" y="69228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Сокращение трудозатрат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~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 14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358920" y="1628640"/>
            <a:ext cx="863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перативный отчет по взаиморасчетам с контраген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Эффект от исполь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44360" y="88272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Создание нового направления бизнес-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Переход от расходной модели к доход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Смена финансового зн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Разработана и успешно реализована концепция партнерского взаимо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УИТиТ вошло в «состав» </a:t>
            </a:r>
            <a:r>
              <a:rPr b="1" i="1" lang="ru-RU" sz="2400" spc="-1" strike="noStrike" u="sng">
                <a:solidFill>
                  <a:srgbClr val="262699"/>
                </a:solidFill>
                <a:uFillTx/>
                <a:latin typeface="Arial"/>
              </a:rPr>
              <a:t>доходных</a:t>
            </a: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 подразде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На основе разработанного в ходе проекта ПО создан тиражируемый проду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87280" y="2430360"/>
            <a:ext cx="86425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Миссия ОАО «Светлана» направлена на  поддержание эффективной  производственной деятельности по созданию электронных компонентов, которые определяют важные характеристики широкого класса приборов в военной и гражданской сфе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6699"/>
                </a:solidFill>
                <a:latin typeface="Arial"/>
              </a:rPr>
              <a:t>Так же мы стремимся развивать инновационные проекты, определяющие научно-технический прогресс в области электроник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971640" y="357120"/>
            <a:ext cx="1904760" cy="190512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6237360" y="403200"/>
            <a:ext cx="1904760" cy="190512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3603600" y="403200"/>
            <a:ext cx="1905120" cy="190512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</p:spTree>
  </p:cSld>
  <p:transition spd="med"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0" y="882720"/>
            <a:ext cx="914400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строение нового бизнес-процесса с методологической баз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Заключено 22 договора с операторами свя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Обеспечение дочерних предприятий и арендаторов качественной связ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вышение привлекательности объектов недвижимости для арендатор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Создание и внедрение ПО для автоматизации данного направления 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  <a:ea typeface="Lucida Sans Unicode"/>
              </a:rPr>
              <a:t>Построение операторской инфраструктуры на площад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Verdana"/>
                <a:ea typeface="Lucida Sans Unicode"/>
              </a:rPr>
              <a:t>Смена финансового знака по направлению «Связь» (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285840" y="63230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Ключевой приоритет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– МИНИМУМ ЗАТ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29149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7858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всег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возможность «здесь и сейчас» сделать первый шаг на пути становления ИТ-подразделения как серьезной бизнес-единицы, влияющей на увеличение финансового результата организации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помнить, что в большинстве случаев это возможно и зависит, в первую очередь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 вас самих и Вашего непосредственного бизнес-руковод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ли «куратора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то, что большая часть работы ляжет на ваши плечи, в руках Вашего «куратора»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танется  задача перевода идеи в проект и поддержка на всем этапе проекта внутри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место выв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228600" y="330840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еализация современных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бизнес-стратеги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может потребовать перехода на более высокие уровни зрелости службы И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0" descr="optimases"/>
          <p:cNvPicPr/>
          <p:nvPr/>
        </p:nvPicPr>
        <p:blipFill>
          <a:blip r:embed="rId2"/>
          <a:stretch/>
        </p:blipFill>
        <p:spPr>
          <a:xfrm>
            <a:off x="4786200" y="1571760"/>
            <a:ext cx="414972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0" y="0"/>
            <a:ext cx="528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Ключевая мы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95680" y="2280960"/>
            <a:ext cx="4648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Могу ли я услышать Ваши вопрос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27240" y="5033520"/>
            <a:ext cx="5073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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orshenin@spbcioclub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53-26-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ww.aristotel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50920" y="324972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 настоящее время ОАО «Светлана» включает в себя материнскую компанию и дочерние фирмы, специализирующиеся на выпуске определенных видов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28560" y="880920"/>
            <a:ext cx="2613240" cy="190512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3402000" y="884160"/>
            <a:ext cx="2511360" cy="190188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075360" y="880920"/>
            <a:ext cx="2511360" cy="190188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sp>
        <p:nvSpPr>
          <p:cNvPr id="65" name="Rectangle 14"/>
          <p:cNvSpPr/>
          <p:nvPr/>
        </p:nvSpPr>
        <p:spPr>
          <a:xfrm>
            <a:off x="250920" y="44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94285"/>
                </a:solidFill>
                <a:latin typeface="Tahoma"/>
              </a:rPr>
              <a:t>Структура комп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50920" y="1268280"/>
            <a:ext cx="504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енераторные и модуляторные лам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риёмно-усилительные лампы для   аудиотехники класса «HI-FI»  и «HI-END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Рентгеновские трубки всех классов и назнач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390840" cy="214632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2286000" cy="228600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sp>
        <p:nvSpPr>
          <p:cNvPr id="70" name="Line 5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0" y="4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4285"/>
                </a:solidFill>
                <a:latin typeface="Tahoma"/>
              </a:rPr>
              <a:t>Основные направления производ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4285"/>
                </a:solidFill>
                <a:latin typeface="Tahoma"/>
              </a:rPr>
              <a:t>Деятельности ОАО «Светлана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0920" y="773280"/>
            <a:ext cx="504180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336699"/>
              </a:buClr>
              <a:buFont typeface="Arial"/>
              <a:buChar char="•"/>
              <a:tabLst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ВЧ-приборы и устройства: клистроны, магнетроны, разрядни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ВЧ – моду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олупроводниковые приборы, интегральные микросхемы, микропроцессоры и микроконтроллёры на их осн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6012000" y="3714840"/>
            <a:ext cx="2857320" cy="214452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337000" y="1268280"/>
            <a:ext cx="3548160" cy="2360880"/>
          </a:xfrm>
          <a:prstGeom prst="rect">
            <a:avLst/>
          </a:prstGeom>
          <a:ln w="9360">
            <a:solidFill>
              <a:srgbClr val="194285"/>
            </a:solidFill>
            <a:miter/>
          </a:ln>
        </p:spPr>
      </p:pic>
      <p:sp>
        <p:nvSpPr>
          <p:cNvPr id="75" name="Line 5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4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4285"/>
                </a:solidFill>
                <a:latin typeface="Tahoma"/>
              </a:rPr>
              <a:t>Основные направления производ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4285"/>
                </a:solidFill>
                <a:latin typeface="Tahoma"/>
              </a:rPr>
              <a:t>Деятельности ОАО «Светлана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Documents and Settings\gsoft\Рабочий стол\Материал по ОАО Светлана для презентаций\Светотехнические изделия 15.jpg"/>
          <p:cNvPicPr/>
          <p:nvPr/>
        </p:nvPicPr>
        <p:blipFill>
          <a:blip r:embed="rId2"/>
          <a:stretch/>
        </p:blipFill>
        <p:spPr>
          <a:xfrm>
            <a:off x="6794640" y="2500200"/>
            <a:ext cx="234936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Line 2"/>
          <p:cNvSpPr/>
          <p:nvPr/>
        </p:nvSpPr>
        <p:spPr>
          <a:xfrm>
            <a:off x="0" y="620640"/>
            <a:ext cx="9144000" cy="1800"/>
          </a:xfrm>
          <a:prstGeom prst="line">
            <a:avLst/>
          </a:prstGeom>
          <a:ln w="9360">
            <a:solidFill>
              <a:srgbClr val="194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85840" y="714240"/>
            <a:ext cx="678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борудование    для    выращивания    многослойных    гетероструктур методом молекулярно-пучковой эпитак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ощные светодиоды высокой яр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птоэлектроника и светотехника на основе светоди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buClr>
                <a:srgbClr val="336699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едицинское оборуд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0" y="4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4285"/>
                </a:solidFill>
                <a:latin typeface="Tahoma"/>
              </a:rPr>
              <a:t>Основные направления производ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4285"/>
                </a:solidFill>
                <a:latin typeface="Tahoma"/>
              </a:rPr>
              <a:t>Деятельности ОАО «Светлана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ogo"/>
          <p:cNvPicPr/>
          <p:nvPr/>
        </p:nvPicPr>
        <p:blipFill>
          <a:blip r:embed="rId2"/>
          <a:stretch/>
        </p:blipFill>
        <p:spPr>
          <a:xfrm>
            <a:off x="0" y="5537160"/>
            <a:ext cx="1908000" cy="1320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Логотип клуба прозрачный фон"/>
          <p:cNvPicPr/>
          <p:nvPr/>
        </p:nvPicPr>
        <p:blipFill>
          <a:blip r:embed="rId3"/>
          <a:stretch/>
        </p:blipFill>
        <p:spPr>
          <a:xfrm>
            <a:off x="7164360" y="5295960"/>
            <a:ext cx="1979640" cy="156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5857920" y="0"/>
            <a:ext cx="3286080" cy="458136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0" y="1844640"/>
            <a:ext cx="5796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ачальник управления информационных технологий и телекоммуникаций ОАО «Светла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Член правления Санкт-Петербургского клуба ИТ-директоров «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PB CIO Club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Член экспертного совета журнала "IT Manag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Член центра ИТ-экспертизы Российского Союза Директоров И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260280"/>
            <a:ext cx="496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cc3399"/>
                </a:solidFill>
                <a:latin typeface="Arial"/>
              </a:rPr>
              <a:t>Горшенин Серг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1611360"/>
            <a:ext cx="864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94285"/>
                </a:solidFill>
                <a:latin typeface="Tahoma"/>
              </a:rPr>
              <a:t>Управле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94285"/>
                </a:solidFill>
                <a:latin typeface="Tahoma"/>
              </a:rPr>
              <a:t>информационных технологий и телекоммуникац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194285"/>
                </a:solidFill>
                <a:latin typeface="Tahoma"/>
              </a:rPr>
              <a:t>ОАО «</a:t>
            </a:r>
            <a:r>
              <a:rPr b="1" lang="ru-RU" sz="4000" spc="-1" strike="noStrike">
                <a:solidFill>
                  <a:srgbClr val="194285"/>
                </a:solidFill>
                <a:latin typeface="Tahoma"/>
              </a:rPr>
              <a:t>Светлана</a:t>
            </a:r>
            <a:r>
              <a:rPr b="1" lang="en-GB" sz="4000" spc="-1" strike="noStrike">
                <a:solidFill>
                  <a:srgbClr val="194285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rozov Dmitry</dc:creator>
  <dc:description/>
  <dc:language>en-US</dc:language>
  <cp:lastModifiedBy>Admin</cp:lastModifiedBy>
  <dcterms:modified xsi:type="dcterms:W3CDTF">2013-10-05T13:22:41Z</dcterms:modified>
  <cp:revision>74</cp:revision>
  <dc:subject/>
  <dc:title>Слайд 1</dc:title>
</cp:coreProperties>
</file>